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4B3-A19C-468F-A19C-0414A75B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9A7-C198-4547-9EC7-74D35C1F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04F-0ECA-403C-AB50-17DBD8B9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752-A692-40E9-B1A1-51F74072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213-39DD-476A-AA6B-F3A4B260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42C-CD9F-416D-A91E-51C3AB58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CA5-B853-4359-9C1F-5582F699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B979-C46F-4E96-A423-F9472D0F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716-73BF-481A-9839-A4D7211D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7AE-C441-4376-BECB-BEEAF23F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8C4-74F5-4E08-A737-BA483BDC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A47-FBCB-4430-B4F2-E164C7A0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62F5-07D1-4470-9A1E-7036629C8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use Temper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8381880" cy="485460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133720"/>
                <a:gridCol w="2133360"/>
              </a:tblGrid>
              <a:tr h="18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ite H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wn H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ack H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:00 a.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:00 a.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:00 a.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:00 p.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½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:00 p.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½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:00 p.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:00 p.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½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 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3d5d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 Temper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3680" y="1143000"/>
          <a:ext cx="821520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143000"/>
                    <a:ext cx="821520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1:08:46Z</dcterms:created>
  <dc:creator>Laura</dc:creator>
  <dc:description/>
  <dc:language>en-US</dc:language>
  <cp:lastModifiedBy>Ps 149</cp:lastModifiedBy>
  <dcterms:modified xsi:type="dcterms:W3CDTF">2011-01-20T07:08:58Z</dcterms:modified>
  <cp:revision>3</cp:revision>
  <dc:subject/>
  <dc:title>House Temperatures</dc:title>
</cp:coreProperties>
</file>